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34B-64A4-44E0-8908-408E3498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962-700D-436B-8D97-37A7C7B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C36-D8BE-45EA-AC1B-6EFB9655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C26-57C3-4A8E-956F-FDCC8169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C738-DE5A-4555-83A0-C745BA8C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FE61-6518-40CE-877E-5CE8D2F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5A09-21C7-4D83-B973-2F776928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5C7-817D-4AF9-B1B4-2397B911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96DB-1C62-4BD1-B8B7-8C5F0EF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9A63-CED8-4D11-81C2-12540D09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75E6-8986-4E1D-958A-13E7FDA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8BF-4250-4D3F-8007-2A32F3C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4569-6FA4-4D35-8EC1-F980D51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748E-C46D-4194-A5A2-10F1BC9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51D2-93DC-4A51-BD62-CE0EABA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D99E-5289-4B02-B338-E9FC4992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2AC2-ADE7-42E8-8B8A-D24BB62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524-9B55-45D0-836D-9ACE1995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B7C-B60C-4DB0-9217-BD53084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864-F9EB-479D-9E7A-E0CF31B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BF3-CFFB-4A01-B335-5AD934A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61A-F0CE-49F1-8447-54F0F9D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A64-4AB8-4D18-A9CE-C943BA3F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ED4-C336-48D2-BBAD-281E07C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FD2B-864A-45A8-AF1C-BAF91221873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49C-E7E3-4C10-9A74-CF3F94ECC1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2. Peter’s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Equ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storts Dir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355760"/>
            <a:ext cx="746748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3. Winkel Tripel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Provides best balance of size, shape, distance and dir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1. General Purpos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any types of info on one ma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-60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eneral understanding of landscape and lo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2. Thematic Map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hows information on one t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Easy to understan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3. Topographic Map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Use Symbols to show a variety of feat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53376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are a representation of the earth’s features on a flat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lobe is the only accurate method to represent the earth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are a representation of the earth’s features on a flat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ps were created because they are easy to carry and fold up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A Projection is when features of the globe are transferred to a flat surfac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Map Projec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Each Projection will have a distortion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ome areas enlarg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Some areas shrink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rections become inaccur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Mercator Proje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Navigation Cha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True Compass Bear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52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- Distorts Size of Land Mas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gt;Equator small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&gt;Poles larg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Projection Typ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5235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Customer</cp:lastModifiedBy>
  <dcterms:modified xsi:type="dcterms:W3CDTF">2010-09-21T16:40:59Z</dcterms:modified>
  <cp:revision>22</cp:revision>
  <dc:subject/>
  <dc:title>Slide 1</dc:title>
</cp:coreProperties>
</file>